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C464DE-BEEC-4129-9C07-DE4F467AF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ergy between M&amp;E and political commitment – what is the relationship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spent time on function of M&amp;E to facility priority setting, identify programmatic strengths and weaknesses, important role of account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w does it relate to political commit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BFBA0-9548-4F7B-B1C3-F27F76EAF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998A2-4419-47E9-8DC9-32EA53D15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B329F-D8EA-4608-978E-91F45101E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852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328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2376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852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328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E3330-EC37-4FCB-87EC-6A33A9129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23400" y="217440"/>
            <a:ext cx="7791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D78C6-5021-458B-97FE-F1CEC9FC5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852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328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2376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852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328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2379-1D0E-46A5-8187-B3B3B9F118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23400" y="217440"/>
            <a:ext cx="7791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4852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328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2376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4852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7328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040E-341A-47B6-B4F2-3888E06A6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CAC0D-69AE-4DCE-86C6-5C194066A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23400" y="217440"/>
            <a:ext cx="7791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C34D-9426-418F-9DBD-B99A2AAC2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4D83B-F5A2-465A-A0C0-5264118CB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37248-F0E6-4A2A-B0F7-554893460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3641-06D4-4BC5-808F-11F06F3D6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3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70080" y="6477120"/>
            <a:ext cx="756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14120" y="6381360"/>
            <a:ext cx="63831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3840" y="6324480"/>
            <a:ext cx="8886960" cy="0"/>
          </a:xfrm>
          <a:prstGeom prst="line">
            <a:avLst/>
          </a:prstGeom>
          <a:ln w="28440">
            <a:solidFill>
              <a:srgbClr val="2b3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9140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F74B-59E9-4133-AA26-9429DE3275F0}" type="slidenum">
              <a:rPr b="1" lang="en-US" sz="12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00280" y="5010120"/>
            <a:ext cx="16732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809960" y="501012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7720" y="738000"/>
            <a:ext cx="77724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ngagement Strategies for Monitoring &amp; Evalua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067200"/>
            <a:ext cx="64008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a V. Adams, 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&amp;E Regional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ev, Ukra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23-26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&amp;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Technical strategy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3585"/>
                </a:solidFill>
                <a:latin typeface="Arial"/>
              </a:rPr>
              <a:t>Data collection</a:t>
            </a:r>
            <a:endParaRPr b="0" lang="en-US" sz="20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3585"/>
                </a:solidFill>
                <a:latin typeface="Arial"/>
              </a:rPr>
              <a:t>Reporting system</a:t>
            </a:r>
            <a:endParaRPr b="0" lang="en-US" sz="20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3585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Engagement strategy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3585"/>
                </a:solidFill>
                <a:latin typeface="Arial"/>
              </a:rPr>
              <a:t>Motivation of staff to participate – where is the resistance?</a:t>
            </a:r>
            <a:endParaRPr b="0" lang="en-US" sz="20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3585"/>
                </a:solidFill>
                <a:latin typeface="Arial"/>
              </a:rPr>
              <a:t>Creating a culture of information</a:t>
            </a:r>
            <a:endParaRPr b="0" lang="en-US" sz="20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3585"/>
                </a:solidFill>
                <a:latin typeface="Arial"/>
              </a:rPr>
              <a:t>Data submission vs. data collection</a:t>
            </a:r>
            <a:endParaRPr b="0" lang="en-US" sz="20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3585"/>
                </a:solidFill>
                <a:latin typeface="Arial"/>
              </a:rPr>
              <a:t>Feedback mechanism (data flow=bi-directional)</a:t>
            </a:r>
            <a:endParaRPr b="0" lang="en-US" sz="20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E726-012B-4F28-A8AF-6299045A6E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ccessful Eng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Polio </a:t>
            </a:r>
            <a:r>
              <a:rPr b="1" lang="en-US" sz="2600" spc="-1" strike="noStrike">
                <a:solidFill>
                  <a:srgbClr val="2b3585"/>
                </a:solidFill>
                <a:latin typeface="Arial"/>
              </a:rPr>
              <a:t>eradication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- National Immunization Days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HIV-surveillance and program-monitoring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- Links to activism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TB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- Examples, please?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95D42-7AD5-41CE-8719-9E681D4104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voca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17240" y="1447560"/>
            <a:ext cx="5931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2005 Global TB Report</a:t>
            </a: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3585"/>
                </a:solidFill>
                <a:latin typeface="Arial"/>
              </a:rPr>
              <a:t>Weak political commitment</a:t>
            </a: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3585"/>
                </a:solidFill>
                <a:latin typeface="Arial"/>
              </a:rPr>
              <a:t>Insufficient funds</a:t>
            </a: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3585"/>
                </a:solidFill>
                <a:latin typeface="Arial"/>
              </a:rPr>
              <a:t>Low public awareness</a:t>
            </a: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3585"/>
                </a:solidFill>
                <a:latin typeface="Arial"/>
              </a:rPr>
              <a:t>Weak M&amp;E systems</a:t>
            </a: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Are there linkages?</a:t>
            </a: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0002-970A-4FAA-B31C-AB3891B66E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280" y="247680"/>
            <a:ext cx="779148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ynergy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1730520"/>
            <a:ext cx="1601640" cy="1296720"/>
          </a:xfrm>
          <a:custGeom>
            <a:avLst/>
            <a:gdLst>
              <a:gd name="textAreaLeft" fmla="*/ 0 w 1601640"/>
              <a:gd name="textAreaRight" fmla="*/ 1602000 w 160164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6087240" y="2025000"/>
            <a:ext cx="1316160" cy="1225440"/>
          </a:xfrm>
          <a:custGeom>
            <a:avLst/>
            <a:gdLst>
              <a:gd name="textAreaLeft" fmla="*/ 0 w 1316160"/>
              <a:gd name="textAreaRight" fmla="*/ 1316160 w 131616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5843520" y="4524480"/>
            <a:ext cx="1371600" cy="1295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1339560" y="4220640"/>
            <a:ext cx="1373400" cy="1512720"/>
          </a:xfrm>
          <a:custGeom>
            <a:avLst/>
            <a:gdLst>
              <a:gd name="textAreaLeft" fmla="*/ 0 w 1373400"/>
              <a:gd name="textAreaRight" fmla="*/ 1373760 w 137340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58960" y="33415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a58"/>
                </a:solidFill>
                <a:latin typeface="Times New Roman"/>
              </a:rPr>
              <a:t>Monitoring &amp;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87680" y="13222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a58"/>
                </a:solidFill>
                <a:latin typeface="Times New Roman"/>
              </a:rPr>
              <a:t>Programmatic Strengths &amp; Weak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9520" y="345744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a58"/>
                </a:solidFill>
                <a:latin typeface="Times New Roman"/>
              </a:rPr>
              <a:t>Priorities for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2808360"/>
            <a:ext cx="2438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coun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8480" y="49528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a58"/>
                </a:solidFill>
                <a:latin typeface="Times New Roman"/>
              </a:rPr>
              <a:t>Implementation of New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86F9-BFCB-4E08-9738-1DAB362A8F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w Public Awareness…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9320" y="1581120"/>
            <a:ext cx="714384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TB often remains neglected a public-health issue</a:t>
            </a: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TB has an image problem!</a:t>
            </a: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b3585"/>
                </a:solidFill>
                <a:latin typeface="Arial"/>
              </a:rPr>
              <a:t>- Stigma</a:t>
            </a:r>
            <a:endParaRPr b="0" lang="en-US" sz="27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Needs higher profile, and to highlight successes as well as challenges</a:t>
            </a: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Effective advocacy</a:t>
            </a: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FC07-E951-48DE-A016-B25E2CB656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23760" y="1447560"/>
            <a:ext cx="776304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What lies beyond reporting, M&amp;E plans?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Capacity building (in M&amp;E and in general)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Understanding of </a:t>
            </a:r>
            <a:r>
              <a:rPr b="0" i="1" lang="en-US" sz="2400" spc="-1" strike="noStrike">
                <a:solidFill>
                  <a:srgbClr val="2b3585"/>
                </a:solidFill>
                <a:latin typeface="Arial"/>
              </a:rPr>
              <a:t>why </a:t>
            </a: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managers collect all this data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Strengthening M&amp;E systems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Keeping TB M&amp;E on the radar screen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Remember: M&amp;E system is what allows you to demonstrate program effectiveness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EE7D4-A665-4060-B55C-95562CE568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6:38:47Z</dcterms:created>
  <dc:creator>Carolina Population Center</dc:creator>
  <dc:description/>
  <dc:language>en-US</dc:language>
  <cp:lastModifiedBy>Carolina Population Center</cp:lastModifiedBy>
  <dcterms:modified xsi:type="dcterms:W3CDTF">2006-11-09T15:59:14Z</dcterms:modified>
  <cp:revision>17</cp:revision>
  <dc:subject/>
  <dc:title>MEASURE Evaluation Co-branding Guidelines</dc:title>
</cp:coreProperties>
</file>